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2BA-6C5B-4F71-B80C-B8A06344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688-DB13-46A2-9213-726ECA5A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62F-FA3C-4DCF-91B1-E093F0F8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2F4-7293-4C2B-93C7-87F167B3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4DE-F812-4BC7-9325-1B1F5EE5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BA7-ED2D-4CAC-A62A-B763A727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68A-54FE-43E1-8DE6-1D106B51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579-C29D-4319-9880-2181D268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355-6997-44DE-BBCE-E9295231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A62-E5A7-4C6B-B006-46D10370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92C-FA46-4CD7-8D21-E3FE1507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C8A-71B5-4CC4-AD51-D6A459BF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032B-F4AC-4AD2-B17C-8D180980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7:55:33Z</dcterms:created>
  <dc:creator>jshelton</dc:creator>
  <dc:description/>
  <dc:language>en-US</dc:language>
  <cp:lastModifiedBy>jshelton</cp:lastModifiedBy>
  <dcterms:modified xsi:type="dcterms:W3CDTF">2010-01-05T17:56:31Z</dcterms:modified>
  <cp:revision>1</cp:revision>
  <dc:subject/>
  <dc:title>Slide 1</dc:title>
</cp:coreProperties>
</file>